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13.jpeg" ContentType="image/jpeg"/>
  <Override PartName="/ppt/media/image10.jpeg" ContentType="image/jpeg"/>
  <Override PartName="/ppt/media/image11.jpeg" ContentType="image/jpeg"/>
  <Override PartName="/ppt/media/image1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EB1B-873A-444E-8525-9A8CB1EDF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773D-A8B9-44E5-91E2-1445BFCB4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2D24-BDA7-4242-8EEF-48F776DA9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56A0-8BF0-43DD-A95C-7B243A007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68D66-C501-4FAB-83AE-AFA62A218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970BB-E34A-4634-A15F-36E88E9C5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498F4-759B-43CE-ABB5-829058439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92865-F555-4954-A568-EC9CD022F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43A5A-7999-4EF7-AB59-D6B1E8195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122FC-6EC5-46E1-98C3-99887E550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75993-A636-420C-AE83-A19814853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1056-D027-4244-A30F-1594DB708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94160-E8B8-48D0-A11E-B0CC59777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FB24F-7792-42B1-8CB0-586A94358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51DD2-CD23-4AAB-BCE7-1431EE136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ABDAA-5F1C-4777-9384-D4310AD5D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92955-9109-43C7-8ACB-E48253269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0D96B2-730D-4F85-8BF5-01D669FDF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0C4E0B-465F-4C74-8313-B097727B9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6F70FE-19AC-43EB-B80B-0ED195C2F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BBC0FE-9668-4404-863C-19BB24F92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B404BD-B255-4D6E-BB95-D9B3F79FA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49A1-D698-4C79-9710-CB632575D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CA0C7E-93D3-46C6-B205-B90AC9DB9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8CC4C0-B392-4DD9-B232-1E57F56F1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1381E9-6630-48F1-A998-F5FEF9E53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D106ED-BA64-42D4-BDD2-2C1356CFE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FC5147-06A1-42ED-9DB3-81525DCBB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7D49CA-4229-4C8F-926B-7C0B02CF7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8F6174-F440-42F6-9CEE-0BEA0D367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7ED0AF-113B-40EF-AEF8-484AAFDCC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0A612D-6419-47B1-BFBB-965165E4F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9AC711-7C3E-4A61-B4FF-35CA81A66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6E92-3BD4-4B30-8F15-D8526F465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DEB992-DFEB-40E9-A103-1EBEB00D5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4A141F-DC49-4AC7-89F5-94EFF63A5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0F4848-7719-46C8-8F94-D41527A8B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CA394F-97FD-4566-8FB7-7B622C99F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4C7EFE-F27E-4DE5-AF5C-826176AC1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81AE1F-11BC-4754-AFA1-ACFF89078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F68925-3A59-4A63-B819-0ADF89C61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C1C30B-B8C1-4AF8-9668-13BD8A346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D39CC7-3E66-45E2-BF4C-CE78DE5D4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804F-AD2A-4C4E-BA11-F713E4C2B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419F-C833-4829-AFD1-0D865C9DE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69E1-B5CC-4D15-9644-8B94F5255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7D7C-B334-4405-B280-43292365B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74B0-FCB2-4212-B0CD-95752222E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408E6-73DA-44C7-B762-F03E57C27631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A7E3F-5BBB-4DB3-91E7-5828F738EB38}" type="slidenum">
              <a:rPr b="0" lang="en-U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C42ED-05AC-43D4-9341-C1074CA3434E}" type="slidenum">
              <a:rPr b="0" lang="en-U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B0A47-DCE1-49D1-864E-30DDA43E0690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upload.wikimedia.org/wikipedia/commons/f/fb/Meselson-stahl_experiment_diagram_en.svg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s://www.google.rs/url?sa=i&amp;rct=j&amp;q=&amp;esrc=s&amp;source=images&amp;cd=&amp;cad=rja&amp;uact=8&amp;ved=0ahUKEwj1uMvk5s3MAhVDcBoKHcy6DAAQjRwIBw&amp;url=https%3A%2F%2Fwww.mun.ca%2Fbiology%2Fscarr%2FiGen3_03-01.html&amp;psig=AFQjCNFGr1XLxnRIcVULs-3FrgoxuW5_uw&amp;ust=1462911120822401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3520" y="13712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800" spc="-1" strike="noStrike">
                <a:solidFill>
                  <a:srgbClr val="dbf5f9"/>
                </a:solidFill>
                <a:latin typeface="Arial"/>
              </a:rPr>
              <a:t>РЕПЛИКАЦИЈА</a:t>
            </a:r>
            <a:endParaRPr b="0" lang="en-US" sz="4800" spc="-1" strike="noStrike">
              <a:solidFill>
                <a:srgbClr val="dbf5f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cc"/>
                </a:solidFill>
                <a:latin typeface="Calibri"/>
              </a:rPr>
              <a:t>Репликација је савршено контролисана и регулисана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236232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Грешке у спаривању најчешће настају због таутомерних пр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мена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азотних база (прелази Н атом са једне на другу позицију унутар молекула базе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 u="sng">
                <a:solidFill>
                  <a:srgbClr val="000000"/>
                </a:solidFill>
                <a:uFillTx/>
                <a:latin typeface="Arial"/>
              </a:rPr>
              <a:t>Пример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= A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      енолни облик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T-G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      репликациј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G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≡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C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≡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G       имино облик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C-A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 репликациј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 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256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ff"/>
                </a:solidFill>
                <a:latin typeface="Arial"/>
              </a:rPr>
              <a:t>Транзиције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мења се пурин пурином и пиримидин пиримидином </a:t>
            </a:r>
            <a:br>
              <a:rPr sz="2400"/>
            </a:br>
            <a:r>
              <a:rPr b="1" i="1" lang="fr-FR" sz="2400" spc="-1" strike="noStrike">
                <a:solidFill>
                  <a:srgbClr val="6600ff"/>
                </a:solidFill>
                <a:latin typeface="Arial"/>
              </a:rPr>
              <a:t>Трансверзије</a:t>
            </a:r>
            <a:r>
              <a:rPr b="1" i="1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мења се пурин пиримидином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и обратно</a:t>
            </a:r>
            <a:br>
              <a:rPr sz="2400"/>
            </a:b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6" name="Picture 2" descr="http://www.zoology.ubc.ca/genetics/transisverstable.gif"/>
          <p:cNvPicPr/>
          <p:nvPr/>
        </p:nvPicPr>
        <p:blipFill>
          <a:blip r:embed="rId1"/>
          <a:stretch/>
        </p:blipFill>
        <p:spPr>
          <a:xfrm>
            <a:off x="30240" y="3276720"/>
            <a:ext cx="2789280" cy="28954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4" descr="http://www.mun.ca/biology/scarr/iGen3_07-03_Figure-Lab.jpg"/>
          <p:cNvPicPr/>
          <p:nvPr/>
        </p:nvPicPr>
        <p:blipFill>
          <a:blip r:embed="rId2"/>
          <a:stretch/>
        </p:blipFill>
        <p:spPr>
          <a:xfrm>
            <a:off x="3009960" y="2992320"/>
            <a:ext cx="609588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  <a:ea typeface="Arial"/>
              </a:rPr>
              <a:t>Спонтана стопа мутације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259092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Спонтана стопа мутације </a:t>
            </a:r>
            <a:r>
              <a:rPr b="0" lang="fr-FR" sz="2800" spc="-1" strike="noStrike">
                <a:solidFill>
                  <a:srgbClr val="ff0000"/>
                </a:solidFill>
                <a:latin typeface="Arial"/>
              </a:rPr>
              <a:t>по гену износи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"/>
              </a:rPr>
              <a:t>-4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-10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"/>
              </a:rPr>
              <a:t>-6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понтана стопа мутације </a:t>
            </a:r>
            <a:r>
              <a:rPr b="0" lang="sr-CS" sz="2800" spc="-1" strike="noStrike">
                <a:solidFill>
                  <a:srgbClr val="ff0000"/>
                </a:solidFill>
                <a:latin typeface="Arial"/>
              </a:rPr>
              <a:t>по нуклеотиду износи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10</a:t>
            </a:r>
            <a:r>
              <a:rPr b="0" lang="sr-RS" sz="2800" spc="-1" strike="noStrike" baseline="30000">
                <a:solidFill>
                  <a:srgbClr val="ff0000"/>
                </a:solidFill>
                <a:latin typeface="Arial"/>
              </a:rPr>
              <a:t>8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-10</a:t>
            </a:r>
            <a:r>
              <a:rPr b="0" lang="sr-RS" sz="2800" spc="-1" strike="noStrike" baseline="30000">
                <a:solidFill>
                  <a:srgbClr val="ff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Р</a:t>
            </a:r>
            <a:r>
              <a:rPr b="0" lang="sr-CS" sz="5000" spc="-1" strike="noStrike">
                <a:solidFill>
                  <a:srgbClr val="04617b"/>
                </a:solidFill>
                <a:latin typeface="Calibri"/>
              </a:rPr>
              <a:t>епликациј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539640" y="2349000"/>
            <a:ext cx="8229600" cy="20703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dd9"/>
                </a:solidFill>
                <a:latin typeface="Constantia"/>
              </a:rPr>
              <a:t>https://www.youtube.com/watch?v=TNKWgcFPHqwhttps://www.youtube.com/watch?v=TNKWgcFPHqw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Arial"/>
              </a:rPr>
              <a:t>Репликација (удвајање) ДНК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ДНК је једини познати молекул који има способност ауторепродукци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-3826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шава се у </a:t>
            </a:r>
            <a:r>
              <a:rPr b="1" i="1" lang="sr-Latn-C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фази интерфаз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када су хромозоми у деспирализованом стању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-3826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М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елсон и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тал (1958.) су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својим експериментима показали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да се репликација одвија на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Latn-CS" sz="2400" spc="-1" strike="noStrike">
                <a:solidFill>
                  <a:srgbClr val="ff0000"/>
                </a:solidFill>
                <a:latin typeface="Arial"/>
              </a:rPr>
              <a:t>полуконзервативан </a:t>
            </a:r>
            <a:r>
              <a:rPr b="0" lang="sr-Latn-CS" sz="24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0" i="1" lang="sr-Latn-CS" sz="2400" spc="-1" strike="noStrike">
                <a:solidFill>
                  <a:srgbClr val="ff0000"/>
                </a:solidFill>
                <a:latin typeface="Arial"/>
              </a:rPr>
              <a:t>семиконзервативан</a:t>
            </a:r>
            <a:r>
              <a:rPr b="0" lang="sr-Latn-CS" sz="24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начин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  <a:ea typeface="Arial"/>
              </a:rPr>
              <a:t>Експеримент Мезелсона и Штал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99" name="Picture 2" descr="File:Meselson-stahl experiment diagram en.sv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05120" y="2098800"/>
            <a:ext cx="487656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Репликација се дешава на семиконзервативан начин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1" name="Picture 5" descr="https://www.mun.ca/biology/scarr/iGen3_03-01_Figure-L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2133720"/>
            <a:ext cx="822960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4617b"/>
                </a:solidFill>
                <a:latin typeface="Arial"/>
              </a:rPr>
              <a:t>Ензими репликације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609120" y="1371240"/>
            <a:ext cx="72392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Хеликаз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Топоизомераз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SB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 протеин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Нуклеаз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sr-CS" sz="2400" spc="-1" strike="noStrike">
                <a:solidFill>
                  <a:srgbClr val="000000"/>
                </a:solidFill>
                <a:latin typeface="Arial"/>
              </a:rPr>
              <a:t>1. Ендонуклеаз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sr-CS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sr-CS" sz="2400" spc="-1" strike="noStrike">
                <a:solidFill>
                  <a:srgbClr val="000000"/>
                </a:solidFill>
                <a:latin typeface="Arial"/>
              </a:rPr>
              <a:t>гзонуклеаз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Полимераз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(ДНК-полимеразе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DNK poly I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sr-C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DNK poly II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sr-C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DNK poly III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CS" sz="2400" spc="-1" strike="noStrike">
                <a:solidFill>
                  <a:srgbClr val="0000ff"/>
                </a:solidFill>
                <a:latin typeface="Arial"/>
              </a:rPr>
              <a:t>РНК полимераза </a:t>
            </a:r>
            <a:r>
              <a:rPr b="0" lang="sr-Latn-CS" sz="2400" spc="-1" strike="noStrike">
                <a:solidFill>
                  <a:srgbClr val="0000ff"/>
                </a:solidFill>
                <a:latin typeface="Arial"/>
              </a:rPr>
              <a:t>-</a:t>
            </a:r>
            <a:r>
              <a:rPr b="0" lang="sr-C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ff"/>
                </a:solidFill>
                <a:latin typeface="Arial"/>
              </a:rPr>
              <a:t>примаз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Лигаз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-360" y="990360"/>
            <a:ext cx="4800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епликација код еукариота се дешава на више места дуж хромозома у  исто време,  у правцу </a:t>
            </a:r>
            <a:r>
              <a:rPr b="0" lang="sr-RS" sz="2800" spc="-1" strike="noStrike">
                <a:solidFill>
                  <a:srgbClr val="000000"/>
                </a:solidFill>
                <a:latin typeface="Constantia"/>
              </a:rPr>
              <a:t>5</a:t>
            </a:r>
            <a:r>
              <a:rPr b="0" lang="sr-RS" sz="2800" spc="-1" strike="noStrike" baseline="30000">
                <a:solidFill>
                  <a:srgbClr val="000000"/>
                </a:solidFill>
                <a:latin typeface="Constantia"/>
              </a:rPr>
              <a:t>'</a:t>
            </a:r>
            <a:r>
              <a:rPr b="0" lang="sr-RS" sz="2800" spc="-1" strike="noStrike">
                <a:solidFill>
                  <a:srgbClr val="000000"/>
                </a:solidFill>
                <a:latin typeface="Constantia"/>
              </a:rPr>
              <a:t>-3</a:t>
            </a:r>
            <a:r>
              <a:rPr b="0" lang="sr-RS" sz="2800" spc="-1" strike="noStrike" baseline="30000">
                <a:solidFill>
                  <a:srgbClr val="000000"/>
                </a:solidFill>
                <a:latin typeface="Constantia"/>
              </a:rPr>
              <a:t>'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е почиње на самом крају ланц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5" name="Picture 4" descr="ReplicationBubbles"/>
          <p:cNvPicPr/>
          <p:nvPr/>
        </p:nvPicPr>
        <p:blipFill>
          <a:blip r:embed="rId1"/>
          <a:stretch/>
        </p:blipFill>
        <p:spPr>
          <a:xfrm>
            <a:off x="5562720" y="1371600"/>
            <a:ext cx="272232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228240" y="1294920"/>
            <a:ext cx="43434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оцесу репликације претходи иницијација репликациј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У иницијацији настаје пререпликациони комплекс (комплекс протеина који настаје на месту почетка репликације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lication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оrigin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7" name="Picture 4" descr="replication3"/>
          <p:cNvPicPr/>
          <p:nvPr/>
        </p:nvPicPr>
        <p:blipFill>
          <a:blip r:embed="rId1"/>
          <a:stretch/>
        </p:blipFill>
        <p:spPr>
          <a:xfrm>
            <a:off x="4876920" y="1447920"/>
            <a:ext cx="3976560" cy="36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0" y="144792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епликација т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ече у исто време на оба ланца у правцу 5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`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`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а пошто су они антипаралелни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на једном тече од краја ка средишту репликацион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виљушке, а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на другом од средишта ка крају репликационе виљушк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9" name="Picture 3" descr="DNArep1"/>
          <p:cNvPicPr/>
          <p:nvPr/>
        </p:nvPicPr>
        <p:blipFill>
          <a:blip r:embed="rId1"/>
          <a:stretch/>
        </p:blipFill>
        <p:spPr>
          <a:xfrm>
            <a:off x="4400640" y="1295280"/>
            <a:ext cx="4743360" cy="454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1. На </a:t>
            </a:r>
            <a:r>
              <a:rPr b="1" lang="sr-CS" sz="2000" spc="-1" strike="noStrike">
                <a:solidFill>
                  <a:srgbClr val="ff0000"/>
                </a:solidFill>
                <a:latin typeface="Arial"/>
              </a:rPr>
              <a:t>водећем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ланцу - Примаза 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K poly III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7631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2. На </a:t>
            </a:r>
            <a:r>
              <a:rPr b="1" lang="sr-CS" sz="2000" spc="-1" strike="noStrike">
                <a:solidFill>
                  <a:srgbClr val="ff0000"/>
                </a:solidFill>
                <a:latin typeface="Arial"/>
              </a:rPr>
              <a:t>заостајућем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ланцу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Примаз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K poly III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K poly I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Лигаза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која повезује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000" spc="-1" strike="noStrike">
                <a:solidFill>
                  <a:srgbClr val="0000ff"/>
                </a:solidFill>
                <a:latin typeface="Arial"/>
              </a:rPr>
              <a:t>Оказакијеве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ф</a:t>
            </a:r>
            <a:r>
              <a:rPr b="1" i="1" lang="sr-Latn-CS" sz="2000" spc="-1" strike="noStrike">
                <a:solidFill>
                  <a:srgbClr val="0000ff"/>
                </a:solidFill>
                <a:latin typeface="Arial"/>
              </a:rPr>
              <a:t>рагмент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r-CS" sz="2400" spc="-1" strike="noStrike">
                <a:solidFill>
                  <a:srgbClr val="000000"/>
                </a:solidFill>
                <a:latin typeface="Constanti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2" name="Picture 4" descr="Enzymes%20at%20Replication%20Fork"/>
          <p:cNvPicPr/>
          <p:nvPr/>
        </p:nvPicPr>
        <p:blipFill>
          <a:blip r:embed="rId1"/>
          <a:stretch/>
        </p:blipFill>
        <p:spPr>
          <a:xfrm>
            <a:off x="2819520" y="1860480"/>
            <a:ext cx="6172200" cy="4716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7T11:26:11Z</dcterms:created>
  <dc:creator>Olivera</dc:creator>
  <dc:description/>
  <dc:language>en-US</dc:language>
  <cp:lastModifiedBy>Korisnik</cp:lastModifiedBy>
  <dcterms:modified xsi:type="dcterms:W3CDTF">2021-11-15T15:16:37Z</dcterms:modified>
  <cp:revision>101</cp:revision>
  <dc:subject/>
  <dc:title>2-Humani genom</dc:title>
</cp:coreProperties>
</file>